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whoosh.wav" ContentType="audio/x-wav"/>
  <Override PartName="/ppt/media/image10.jpeg" ContentType="image/jpeg"/>
  <Override PartName="/ppt/media/image12.jpeg" ContentType="image/jpeg"/>
  <Override PartName="/ppt/media/image6.png" ContentType="image/png"/>
  <Override PartName="/ppt/media/image7.jpeg" ContentType="image/jpeg"/>
  <Override PartName="/ppt/media/image1.jpeg" ContentType="image/jpeg"/>
  <Override PartName="/ppt/media/image2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drumroll.wav" ContentType="audio/x-wav"/>
  <Override PartName="/ppt/media/image3.jpeg" ContentType="image/jpeg"/>
  <Override PartName="/ppt/media/type.wav" ContentType="audio/x-wav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63B-A605-4D32-A4CD-85595A33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710-D1F3-46EB-91C2-730EE4E8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918-0D2C-47D8-809C-8A5B6E17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FE2-1694-4AA3-A909-044103B9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BFD5-A7D3-4360-8359-07173E77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9CEA-F6F9-4E00-A80D-01753436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FDEE-AEC5-4875-8E7D-81436FDC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1C32-657E-4FC0-8EAA-527DCD9F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EC4D-EAC8-4149-BA72-F0154B5D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48AD-2DAB-4554-BAAD-CB1AF0B3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AB73-4B1E-4027-816B-D2B8C24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AAC-D007-4971-BD37-87574D3B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DFA6-37F0-445D-BC75-9E6F441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67B4-5976-4519-B78B-87A4826E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A967-92AB-4935-A0A7-567E9E36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B93B-979C-4C37-B20F-5FE51560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B1D2-B780-487F-BC4E-11E716A5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EF53-2A71-40CC-B3D9-A6432A79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DBCF-9A49-47DE-BF86-0CF38B26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E941-EB0C-43C3-8827-2B84185C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613F-8891-4B02-9BF9-BD08BF6F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BAD1-9563-48F5-8034-787377A7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C5C-D410-4BBC-A32E-858BAE4E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370C-758E-4710-8013-50A86C83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1839-43E9-4E85-86F3-03D3CE08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63EE8-53B1-43AB-A61A-3AFF292E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6F9D-8978-416F-B8CD-5FC76ED8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B965-0E3F-4D75-B594-BC3E859A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0625-4E84-46A7-83F9-AA21CA59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A303-3724-4163-A230-FD776219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0024-E53B-48C9-B904-4C387172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7C4B0-C797-4F49-9BC5-A6CE2879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A6D76-4BB8-47B7-A5C7-9F449119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280-8081-45F2-8E8F-6A9A0992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3E06-A737-4E99-91A5-BCD43C9D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2FD2D-BC1A-4910-AD6D-A9023DFC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1ED31-6A06-47CA-BA8B-2623F28C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58AA-F06C-4231-B4FA-6E3F1BEB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74D6E-6CD8-4294-9E0D-57DF9EA7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99D57-0D31-4978-BA6E-15535E7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7F17C-C1D7-4DBD-9E0C-71BF9C5E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4CF26-077F-4A39-8AD5-4A5C5930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BB66E-337F-45A0-B12F-BCF28447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46914-B5E1-4387-9635-05F8C067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792-71D0-4C85-A9CB-9E6FA78C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5BD0-AEFE-4830-9382-E23BF56E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AA021-1AFA-46CC-B2AA-7C64E9BC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D5472-846D-4713-9742-98E8F2C1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36A5-1B01-4F35-B7E7-C29C9C63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3221E-7B57-4037-A44F-A0E23442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5D5BE-498D-489A-8DDB-75105AE4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4ED1-D53B-42B7-B86A-640F7341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09384-28AB-4B71-B3D6-FB89AC62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DA89-F114-4A32-8DF8-A03C9DA4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80E2C-9042-4AA6-A4A5-9E0B77DF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785-17FD-4348-9B52-A1A3BAC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DBB31-AF6A-4516-8CB0-3B1EA90A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6A4-E6BC-450C-A6D7-0D0F4820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CE9-7312-4894-BAA4-CAB78627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C94-7C37-4FEE-8132-D4EEF422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BAC8-8544-4B24-9911-43EB7B8B21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4410-842E-49AA-8762-0C16869E77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70ED-07C6-4BD2-9C97-3DD18AE203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3940-39B8-4AC2-86EC-4C438B8DFA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F21F-BE26-408E-8B47-748C5CF75C48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audio" Target="../media/drumroll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24000" y="1484280"/>
            <a:ext cx="8424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Times New Roman"/>
              </a:rPr>
              <a:t>5.</a:t>
            </a:r>
            <a:r>
              <a:rPr b="1" lang="zh-CN" sz="9600" spc="-1" strike="noStrike">
                <a:solidFill>
                  <a:srgbClr val="000066"/>
                </a:solidFill>
                <a:latin typeface="Times New Roman"/>
              </a:rPr>
              <a:t>古诗两首</a:t>
            </a:r>
            <a:endParaRPr b="0" lang="en-US" sz="9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556272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丰年留客足鸡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7" name="Picture 4" descr="山村9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矩形 4"/>
          <p:cNvSpPr/>
          <p:nvPr/>
        </p:nvSpPr>
        <p:spPr>
          <a:xfrm>
            <a:off x="5429160" y="1785960"/>
            <a:ext cx="392904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丰收年景款待客人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菜肴尽够丰盛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山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1600200" y="45720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山重水复疑无路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矩形 4"/>
          <p:cNvSpPr/>
          <p:nvPr/>
        </p:nvSpPr>
        <p:spPr>
          <a:xfrm>
            <a:off x="1285920" y="1428840"/>
            <a:ext cx="59292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山峦重重，水道弯弯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正怀疑无路可走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山村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1295280" y="533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Arial"/>
              </a:rPr>
              <a:t>柳暗花明又一村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1143000" y="1857240"/>
            <a:ext cx="6715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突然发现柳荫深深，鲜花明艳，眼前又是一个山村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50920" y="1628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3</a:t>
            </a: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想意境，悟诗情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252360" y="40464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楷体_GB2312"/>
              </a:rPr>
              <a:t>欣赏了完了这首诗，同学们能不能用诗中的一句话来赞美一下山西村的景美呢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887280" y="270828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山重水复疑无路，柳暗花明又一村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52360" y="3789360"/>
            <a:ext cx="8352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还能不能用一句诗来赞美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山西村的人更美呢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96720" y="5373720"/>
            <a:ext cx="81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莫笑农家腊酒浑，丰年留客足鸡豚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95280" y="3589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楷体_GB2312"/>
              </a:rPr>
              <a:t>诗中哪句话揭示了深刻的道理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9640" y="1052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山重水复疑无路，柳暗花明又一村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539640" y="2494080"/>
            <a:ext cx="828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你能用自己的话说说对它的理解吗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12720" y="3718080"/>
            <a:ext cx="7920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09440" y="3502080"/>
            <a:ext cx="89298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诗句的意思是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山峦重重，水道弯弯，正怀疑无路可走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突然发现柳荫深深，鲜花明艳，眼前又是一个山村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36360" y="5086440"/>
            <a:ext cx="9001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34920" y="4941720"/>
            <a:ext cx="900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这个村庄的风光更给了他深刻的启示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经过坎坷曲折之后，往往会出现坦途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常用以形容陷入困境，似以无望，忽而绝处逢生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  <a:ea typeface="楷体_GB2312"/>
              </a:rPr>
              <a:t>出现新的契机，增强克服困难的信心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6720" y="189000"/>
            <a:ext cx="25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主要内容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24000" y="2205000"/>
            <a:ext cx="309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908280" y="2060640"/>
            <a:ext cx="18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表达情感 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95280" y="2781360"/>
            <a:ext cx="864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96720" y="2638440"/>
            <a:ext cx="80661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赞扬了农民的淳朴、好客的品性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表现了诗人对农村生活的真挚感情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68360" y="4292640"/>
            <a:ext cx="324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904320" y="4076640"/>
            <a:ext cx="1704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人生哲理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24000" y="5589720"/>
            <a:ext cx="864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50920" y="479736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面对困难，我们不要轻易退缩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因为曲折之后才是坦途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要记住：“阳光总在风雨后！”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24000" y="126828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1907280" y="1052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作者到山西村做客，见到山西村的美景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50920" y="260280"/>
            <a:ext cx="86756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0808"/>
                </a:solidFill>
                <a:latin typeface="Arial"/>
              </a:rPr>
              <a:t>俗语：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阳光总在风雨后” 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不经历风雨，怎能见彩虹？”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1619280" y="1557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叙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771640" y="1628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050920" y="39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写景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52280" y="2909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楷体_GB2312"/>
              </a:rPr>
              <a:t>游山西村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2987640" y="1268280"/>
            <a:ext cx="287280" cy="1157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3203640" y="3573360"/>
            <a:ext cx="144360" cy="115740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845880" y="90792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莫  笑   农  家   腊   酒   浑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6924960" y="371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景色迷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3492360" y="4508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柳   暗   花   明   又  一   村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699660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盛情待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3348000" y="352116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山   重  水   复   疑   无   路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AutoShape 13"/>
          <p:cNvSpPr/>
          <p:nvPr/>
        </p:nvSpPr>
        <p:spPr>
          <a:xfrm rot="10800000">
            <a:off x="7884720" y="765000"/>
            <a:ext cx="576360" cy="518184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3778920" y="21844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丰   年   留   客   足  鸡    豚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8392680" y="2029680"/>
            <a:ext cx="6069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景美人更美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全班朗诵古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把课后第二题做到作业本上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填写本课练习册习题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2013.9.1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19" name="第五课 古诗两首-游山西村 课文朗读mp3 新课标人教版语文四年级上册 第七册课文朗读(www.asogou.com).mp3" descr="第五课 古诗两首-游山西村 课文朗读mp3 新课标人教版语文四年级上册 第七册课文朗读(www.asogou.com)"/>
          <p:cNvPicPr/>
          <p:nvPr/>
        </p:nvPicPr>
        <p:blipFill>
          <a:blip r:embed="rId1"/>
          <a:stretch/>
        </p:blipFill>
        <p:spPr>
          <a:xfrm>
            <a:off x="4068720" y="177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77328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9ac"/>
                </a:solidFill>
                <a:latin typeface="Arial"/>
              </a:rPr>
              <a:t>学习古诗的方法？</a:t>
            </a:r>
            <a:endParaRPr b="0" lang="en-US" sz="8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2781360"/>
            <a:ext cx="94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9900cc"/>
                </a:solidFill>
                <a:uFillTx/>
                <a:latin typeface="Times New Roman"/>
              </a:rPr>
              <a:t>2</a:t>
            </a:r>
            <a:r>
              <a:rPr b="1" lang="zh-CN" sz="8000" spc="-1" strike="noStrike" u="sng">
                <a:solidFill>
                  <a:srgbClr val="9900cc"/>
                </a:solidFill>
                <a:uFillTx/>
                <a:latin typeface="Times New Roman"/>
              </a:rPr>
              <a:t>释诗句，明诗意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0" y="4292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3</a:t>
            </a:r>
            <a:r>
              <a:rPr b="1" lang="zh-CN" sz="8000" spc="-1" strike="noStrike" u="sng">
                <a:solidFill>
                  <a:srgbClr val="cc3300"/>
                </a:solidFill>
                <a:uFillTx/>
                <a:latin typeface="Times New Roman"/>
              </a:rPr>
              <a:t>想意境，悟诗情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0" y="1413000"/>
            <a:ext cx="8820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66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r>
              <a:rPr b="0" lang="zh-CN" sz="8000" spc="-1" strike="noStrike" u="sng">
                <a:solidFill>
                  <a:srgbClr val="0066ff"/>
                </a:solidFill>
                <a:uFillTx/>
                <a:latin typeface="Times New Roman"/>
                <a:hlinkClick r:id="rId2" action="ppaction://hlinksldjump"/>
              </a:rPr>
              <a:t>知诗人，解题意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5715000" y="3505320"/>
            <a:ext cx="25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1" name="Picture 5" descr="忆江南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9"/>
          <p:cNvSpPr txBox="1"/>
          <p:nvPr/>
        </p:nvSpPr>
        <p:spPr>
          <a:xfrm>
            <a:off x="2124000" y="213372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游山西村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360" y="117000"/>
            <a:ext cx="9072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zh-CN" sz="60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知诗人，解题意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07640" y="1052280"/>
            <a:ext cx="77691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这首诗的作者是谁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38080" y="512604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96720" y="414972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372360" y="105264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8041b"/>
                </a:solidFill>
                <a:latin typeface="Times New Roman"/>
              </a:rPr>
              <a:t>陆游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81080" y="1989000"/>
            <a:ext cx="4751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谁能说出陆游是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什么朝代的什么人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612720" y="3573360"/>
            <a:ext cx="6120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陆游，字务观，号放翁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汉族，越州山阴（今浙江绍兴）人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南宋诗人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创作诗歌很多，今存九千多首，内容极为丰富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抒发政治抱负，反映人民疾苦，风格雄浑豪放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041b"/>
                </a:solidFill>
                <a:latin typeface="Arial"/>
              </a:rPr>
              <a:t>抒写日常生活，也多清新之作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79280" y="3286080"/>
            <a:ext cx="453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24000" y="1989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题目的意思是什么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112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9ac"/>
                </a:solidFill>
                <a:latin typeface="Arial"/>
                <a:ea typeface="华文新魏"/>
              </a:rPr>
              <a:t>游山西村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50920" y="3718080"/>
            <a:ext cx="37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8041b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a8041b"/>
                </a:solidFill>
                <a:latin typeface="Arial"/>
              </a:rPr>
              <a:t>游山西村”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24" name="Group 5"/>
          <p:cNvGrpSpPr/>
          <p:nvPr/>
        </p:nvGrpSpPr>
        <p:grpSpPr>
          <a:xfrm>
            <a:off x="2771640" y="549360"/>
            <a:ext cx="838080" cy="1358640"/>
            <a:chOff x="2771640" y="549360"/>
            <a:chExt cx="838080" cy="1358640"/>
          </a:xfrm>
        </p:grpSpPr>
        <p:sp>
          <p:nvSpPr>
            <p:cNvPr id="225" name="AutoShape 6"/>
            <p:cNvSpPr/>
            <p:nvPr/>
          </p:nvSpPr>
          <p:spPr>
            <a:xfrm>
              <a:off x="3152520" y="549360"/>
              <a:ext cx="228600" cy="533160"/>
            </a:xfrm>
            <a:prstGeom prst="upArrow">
              <a:avLst>
                <a:gd name="adj1" fmla="val 50000"/>
                <a:gd name="adj2" fmla="val 58307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2771640" y="190800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2701800" y="44280"/>
            <a:ext cx="100656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游玩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4071960" y="3357720"/>
            <a:ext cx="485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8041b"/>
                </a:solidFill>
                <a:latin typeface="Arial"/>
              </a:rPr>
              <a:t>在山西村游玩</a:t>
            </a:r>
            <a:r>
              <a:rPr b="1" lang="zh-CN" sz="8000" spc="-1" strike="noStrike">
                <a:solidFill>
                  <a:srgbClr val="a8041b"/>
                </a:solidFill>
                <a:latin typeface="Arial"/>
              </a:rPr>
              <a:t>。</a:t>
            </a:r>
            <a:r>
              <a:rPr b="0" lang="zh-CN" sz="8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4c294400392136454afb51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一、原文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游山西村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                                    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陆游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莫笑农家腊酒浑，丰年留客足鸡豚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　 山重水复疑无路，柳暗花明又一村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　 箫鼓追随春社近，衣冠简朴古风存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　　 从今若许闲乘月，拄杖无时夜叩门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cc6600"/>
              </a:solidFill>
              <a:latin typeface="Times New Roman"/>
              <a:ea typeface="华文新魏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6" name="Picture 6" descr="thumbnail_400_400"/>
          <p:cNvPicPr/>
          <p:nvPr/>
        </p:nvPicPr>
        <p:blipFill>
          <a:blip r:embed="rId1"/>
          <a:stretch/>
        </p:blipFill>
        <p:spPr>
          <a:xfrm>
            <a:off x="36360" y="44280"/>
            <a:ext cx="5256360" cy="67424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5466240" y="1486080"/>
            <a:ext cx="1277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山重水复疑无路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366880" y="295956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柳暗花明又一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7453440" y="2060640"/>
            <a:ext cx="79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8461440" y="2060640"/>
            <a:ext cx="6825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732720" y="1413000"/>
            <a:ext cx="649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丰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年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留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足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鸡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7740720" y="1917720"/>
            <a:ext cx="720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7380360" y="1557360"/>
            <a:ext cx="792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莫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农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家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腊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酒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8388360" y="1844640"/>
            <a:ext cx="576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游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山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5" name="第五课 古诗两首-游山西村 课文朗读mp3 新课标人教版语文四年级上册 第七册课文朗读(www.asogou.com).mp3" descr="第五课 古诗两首-游山西村 课文朗读mp3 新课标人教版语文四年级上册 第七册课文朗读(www.asogou.com)"/>
          <p:cNvPicPr/>
          <p:nvPr/>
        </p:nvPicPr>
        <p:blipFill>
          <a:blip r:embed="rId2"/>
          <a:stretch/>
        </p:blipFill>
        <p:spPr>
          <a:xfrm>
            <a:off x="6732720" y="90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7732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5440" y="2852640"/>
            <a:ext cx="3959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莫笑农家腊酒浑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丰年留客足鸡豚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山重水复疑无路，柳暗花明又一村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476360" y="14860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华文新魏"/>
              </a:rPr>
              <a:t>腊月酿的酒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2268360" y="2276640"/>
            <a:ext cx="790920" cy="1223640"/>
            <a:chOff x="2268360" y="2276640"/>
            <a:chExt cx="790920" cy="1223640"/>
          </a:xfrm>
        </p:grpSpPr>
        <p:sp>
          <p:nvSpPr>
            <p:cNvPr id="249" name="AutoShape 5"/>
            <p:cNvSpPr/>
            <p:nvPr/>
          </p:nvSpPr>
          <p:spPr>
            <a:xfrm>
              <a:off x="2574000" y="2276640"/>
              <a:ext cx="197640" cy="725040"/>
            </a:xfrm>
            <a:prstGeom prst="upArrow">
              <a:avLst>
                <a:gd name="adj1" fmla="val 50000"/>
                <a:gd name="adj2" fmla="val 91712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>
              <a:off x="2268360" y="3500280"/>
              <a:ext cx="79092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1" name="Rectangle 7"/>
          <p:cNvSpPr/>
          <p:nvPr/>
        </p:nvSpPr>
        <p:spPr>
          <a:xfrm>
            <a:off x="3851280" y="2565360"/>
            <a:ext cx="5113440" cy="1224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不要笑话农家的腊酒浑浊不清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3854520" y="3860640"/>
            <a:ext cx="5111640" cy="100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丰收年景款待客人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菜肴尽够丰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3" name="Group 9"/>
          <p:cNvGrpSpPr/>
          <p:nvPr/>
        </p:nvGrpSpPr>
        <p:grpSpPr>
          <a:xfrm>
            <a:off x="468360" y="2708280"/>
            <a:ext cx="360360" cy="720720"/>
            <a:chOff x="468360" y="2708280"/>
            <a:chExt cx="360360" cy="720720"/>
          </a:xfrm>
        </p:grpSpPr>
        <p:sp>
          <p:nvSpPr>
            <p:cNvPr id="254" name="AutoShape 10"/>
            <p:cNvSpPr/>
            <p:nvPr/>
          </p:nvSpPr>
          <p:spPr>
            <a:xfrm>
              <a:off x="632160" y="2708280"/>
              <a:ext cx="98280" cy="282960"/>
            </a:xfrm>
            <a:prstGeom prst="upArrow">
              <a:avLst>
                <a:gd name="adj1" fmla="val 50000"/>
                <a:gd name="adj2" fmla="val 71978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468360" y="3429000"/>
              <a:ext cx="36036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6" name="Text Box 12"/>
          <p:cNvSpPr/>
          <p:nvPr/>
        </p:nvSpPr>
        <p:spPr>
          <a:xfrm>
            <a:off x="-384120" y="22766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华文新魏"/>
              </a:rPr>
              <a:t>不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3852720" y="4941720"/>
            <a:ext cx="5116680" cy="187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山峦重重，水道弯弯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正怀疑无路可走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突然发现柳荫深深，鲜花明艳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眼前又是一个山村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34920" y="0"/>
            <a:ext cx="9107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00cc"/>
                </a:solidFill>
                <a:uFillTx/>
                <a:latin typeface="Arial"/>
              </a:rPr>
              <a:t>2</a:t>
            </a:r>
            <a:r>
              <a:rPr b="1" lang="zh-CN" sz="6000" spc="-1" strike="noStrike" u="sng">
                <a:solidFill>
                  <a:srgbClr val="9900cc"/>
                </a:solidFill>
                <a:uFillTx/>
                <a:latin typeface="Arial"/>
              </a:rPr>
              <a:t>释诗句，明诗意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9" name="Group 15"/>
          <p:cNvGrpSpPr/>
          <p:nvPr/>
        </p:nvGrpSpPr>
        <p:grpSpPr>
          <a:xfrm>
            <a:off x="3203640" y="3860640"/>
            <a:ext cx="360360" cy="505080"/>
            <a:chOff x="3203640" y="3860640"/>
            <a:chExt cx="360360" cy="505080"/>
          </a:xfrm>
        </p:grpSpPr>
        <p:sp>
          <p:nvSpPr>
            <p:cNvPr id="260" name="AutoShape 16"/>
            <p:cNvSpPr/>
            <p:nvPr/>
          </p:nvSpPr>
          <p:spPr>
            <a:xfrm>
              <a:off x="3367440" y="3860640"/>
              <a:ext cx="98280" cy="198360"/>
            </a:xfrm>
            <a:prstGeom prst="upArrow">
              <a:avLst>
                <a:gd name="adj1" fmla="val 50000"/>
                <a:gd name="adj2" fmla="val 50458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>
              <a:off x="3203640" y="4365720"/>
              <a:ext cx="36036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62" name="Rectangle 18"/>
          <p:cNvSpPr/>
          <p:nvPr/>
        </p:nvSpPr>
        <p:spPr>
          <a:xfrm>
            <a:off x="3132000" y="35020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华文新魏"/>
              </a:rPr>
              <a:t>猪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29"/>
          <p:cNvSpPr/>
          <p:nvPr/>
        </p:nvSpPr>
        <p:spPr>
          <a:xfrm>
            <a:off x="457200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莫 笑 农 家 腊 酒 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4" name="Picture 1035" descr="陆游6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矩形 4"/>
          <p:cNvSpPr/>
          <p:nvPr/>
        </p:nvSpPr>
        <p:spPr>
          <a:xfrm>
            <a:off x="4000680" y="2000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（你）不要笑话农家的腊酒浑浊不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8:15:38Z</dcterms:created>
  <dc:creator>wwwfox</dc:creator>
  <dc:description/>
  <cp:keywords/>
  <dc:language>en-US</dc:language>
  <cp:lastModifiedBy>user</cp:lastModifiedBy>
  <dcterms:modified xsi:type="dcterms:W3CDTF">2015-09-18T03:56:02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